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5EF-C2FE-474F-AF20-F6063BE2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309-84D2-40A9-936D-BE4EE180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083-ADE2-4142-A385-0C6E5CAA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7CF-3E00-41CD-8758-0CF82BB6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D22-6DCF-4DB8-A790-4459142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3D5-22B8-415C-A398-573E0C6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29E-BCBD-49E7-BA80-673C2FB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9E5-BAC6-4347-9019-6220FCE2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90E-67C8-4214-8008-AAE9DBF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B29-ED11-493C-B74E-1FC893A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8A5-C6F4-45AB-B727-27A3762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BBE-CF55-48EA-937D-11AE17C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E17C-36F1-4E5B-BDFF-892C326F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43280" y="220500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Relation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0" y="33577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EF is   A   (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0" y="3786120"/>
            <a:ext cx="2071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EF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3-1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3+1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4643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507204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 = -2( x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0" y="5500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 = -2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14200" y="6000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357960" y="16430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Find Midpoint of F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715080" y="3643200"/>
            <a:ext cx="1981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FG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2-3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6-3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643800" y="4500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pendicular m = 3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7072200" y="492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–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991200" y="528624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.5 = 3( x - 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981840" y="564372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.5 = 3x - 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6929280" y="6000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x - y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8"/>
          <p:cNvGrpSpPr/>
          <p:nvPr/>
        </p:nvGrpSpPr>
        <p:grpSpPr>
          <a:xfrm>
            <a:off x="1857240" y="3124080"/>
            <a:ext cx="4876920" cy="3733920"/>
            <a:chOff x="1857240" y="3124080"/>
            <a:chExt cx="4876920" cy="3733920"/>
          </a:xfrm>
        </p:grpSpPr>
        <p:sp>
          <p:nvSpPr>
            <p:cNvPr id="241" name="Oval 19"/>
            <p:cNvSpPr/>
            <p:nvPr/>
          </p:nvSpPr>
          <p:spPr>
            <a:xfrm>
              <a:off x="2924280" y="373356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V="1">
              <a:off x="2924280" y="373356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185724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2"/>
            <p:cNvSpPr/>
            <p:nvPr/>
          </p:nvSpPr>
          <p:spPr>
            <a:xfrm>
              <a:off x="3990960" y="31240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5667480" y="4038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4"/>
            <p:cNvSpPr/>
            <p:nvPr/>
          </p:nvSpPr>
          <p:spPr>
            <a:xfrm>
              <a:off x="4219560" y="5333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4143240" y="373356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V="1">
              <a:off x="4371840" y="411444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 flipH="1" flipV="1">
              <a:off x="3533760" y="441900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 flipV="1">
              <a:off x="521028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 flipV="1">
              <a:off x="4524480" y="3809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3762360" y="3962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4829040" y="42670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2"/>
            <p:cNvSpPr/>
            <p:nvPr/>
          </p:nvSpPr>
          <p:spPr>
            <a:xfrm flipV="1">
              <a:off x="498168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3"/>
            <p:cNvSpPr/>
            <p:nvPr/>
          </p:nvSpPr>
          <p:spPr>
            <a:xfrm flipH="1" flipV="1">
              <a:off x="3228840" y="464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4"/>
            <p:cNvSpPr/>
            <p:nvPr/>
          </p:nvSpPr>
          <p:spPr>
            <a:xfrm flipH="1" flipV="1">
              <a:off x="3685680" y="4038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5"/>
            <p:cNvSpPr/>
            <p:nvPr/>
          </p:nvSpPr>
          <p:spPr>
            <a:xfrm flipH="1" flipV="1">
              <a:off x="3152520" y="4723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6"/>
            <p:cNvSpPr/>
            <p:nvPr/>
          </p:nvSpPr>
          <p:spPr>
            <a:xfrm>
              <a:off x="3686040" y="4267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7"/>
            <p:cNvSpPr/>
            <p:nvPr/>
          </p:nvSpPr>
          <p:spPr>
            <a:xfrm flipH="1">
              <a:off x="3686040" y="44193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38"/>
          <p:cNvSpPr/>
          <p:nvPr/>
        </p:nvSpPr>
        <p:spPr>
          <a:xfrm>
            <a:off x="13320" y="4286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pendicular m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0" y="5716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perpendicular bisectors of EF and F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0" y="1643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Find  Midpoint of E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42920" y="192888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 = (-1, 1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 = (3, 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357200" y="2214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-1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2286000" y="2214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1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4"/>
          <p:cNvSpPr/>
          <p:nvPr/>
        </p:nvSpPr>
        <p:spPr>
          <a:xfrm>
            <a:off x="3143160" y="4143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5715000" y="3071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FG  is B   (4.5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5786280" y="1928880"/>
            <a:ext cx="135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  = (3, 3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 = (6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7286760" y="192888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8215200" y="19288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9"/>
          <p:cNvSpPr/>
          <p:nvPr/>
        </p:nvSpPr>
        <p:spPr>
          <a:xfrm>
            <a:off x="485784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0"/>
          <p:cNvSpPr/>
          <p:nvPr/>
        </p:nvSpPr>
        <p:spPr>
          <a:xfrm>
            <a:off x="571680" y="6488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1"/>
          <p:cNvSpPr/>
          <p:nvPr/>
        </p:nvSpPr>
        <p:spPr>
          <a:xfrm>
            <a:off x="7500960" y="6488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0" y="107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ing where the bisectors meet gives us the centre of the  cir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18572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928880" y="2214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+ y = 4       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857240" y="2643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3x - y = 11     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1500120" y="307188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285920" y="3143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5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2286000" y="3571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x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0" y="42148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stituting   x = 3   into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1928880" y="5143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6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214720" y="5572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071720" y="600084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Hence centre of circle at   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3"/>
          <p:cNvGrpSpPr/>
          <p:nvPr/>
        </p:nvGrpSpPr>
        <p:grpSpPr>
          <a:xfrm>
            <a:off x="4267080" y="3124080"/>
            <a:ext cx="4876920" cy="3733920"/>
            <a:chOff x="4267080" y="3124080"/>
            <a:chExt cx="4876920" cy="3733920"/>
          </a:xfrm>
        </p:grpSpPr>
        <p:sp>
          <p:nvSpPr>
            <p:cNvPr id="290" name="Oval 14"/>
            <p:cNvSpPr/>
            <p:nvPr/>
          </p:nvSpPr>
          <p:spPr>
            <a:xfrm>
              <a:off x="5334120" y="373356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 flipV="1">
              <a:off x="5334120" y="373356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6"/>
            <p:cNvSpPr/>
            <p:nvPr/>
          </p:nvSpPr>
          <p:spPr>
            <a:xfrm>
              <a:off x="4267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7"/>
            <p:cNvSpPr/>
            <p:nvPr/>
          </p:nvSpPr>
          <p:spPr>
            <a:xfrm>
              <a:off x="6400800" y="31240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8077320" y="4038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6629400" y="5333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0"/>
            <p:cNvSpPr/>
            <p:nvPr/>
          </p:nvSpPr>
          <p:spPr>
            <a:xfrm>
              <a:off x="6553080" y="373356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 flipV="1">
              <a:off x="6781680" y="411444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2"/>
            <p:cNvSpPr/>
            <p:nvPr/>
          </p:nvSpPr>
          <p:spPr>
            <a:xfrm flipH="1" flipV="1">
              <a:off x="5943600" y="441900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V="1">
              <a:off x="762012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 flipV="1">
              <a:off x="6934320" y="3809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6172200" y="3962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>
              <a:off x="7238880" y="42670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7"/>
            <p:cNvSpPr/>
            <p:nvPr/>
          </p:nvSpPr>
          <p:spPr>
            <a:xfrm flipV="1">
              <a:off x="739152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 flipH="1" flipV="1">
              <a:off x="5638680" y="464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 flipH="1" flipV="1">
              <a:off x="6095520" y="4038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 flipH="1" flipV="1">
              <a:off x="5562360" y="4723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6095880" y="4267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 flipH="1">
              <a:off x="6095880" y="44193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1933920" y="47149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F33-DD29-4697-92FE-DBB73DCAF566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7"/>
          <p:cNvSpPr/>
          <p:nvPr/>
        </p:nvSpPr>
        <p:spPr>
          <a:xfrm>
            <a:off x="1071720" y="178596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9"/>
          <p:cNvSpPr/>
          <p:nvPr/>
        </p:nvSpPr>
        <p:spPr>
          <a:xfrm>
            <a:off x="1071720" y="407196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1928880" y="2000160"/>
            <a:ext cx="25718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lass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11  Exerci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5429160" y="1928880"/>
            <a:ext cx="2643120" cy="173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222268"/>
                </a:solidFill>
                <a:uFillTx/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Page xx  Exerci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Question 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857680" y="642960"/>
            <a:ext cx="350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quation of the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secting Straight Lines using simultaneous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6"/>
          <p:cNvSpPr/>
          <p:nvPr/>
        </p:nvSpPr>
        <p:spPr>
          <a:xfrm>
            <a:off x="963720" y="198792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nd the equation of the line which passes through the point (-1, 3) and is perpendicular to the line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2"/>
          <p:cNvGraphicFramePr/>
          <p:nvPr/>
        </p:nvGraphicFramePr>
        <p:xfrm>
          <a:off x="6473880" y="2486160"/>
          <a:ext cx="1682640" cy="40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3880" y="2486160"/>
                    <a:ext cx="1682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18"/>
          <p:cNvSpPr/>
          <p:nvPr/>
        </p:nvSpPr>
        <p:spPr>
          <a:xfrm>
            <a:off x="1115280" y="34815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4116240" y="3484440"/>
          <a:ext cx="4791240" cy="3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6240" y="3484440"/>
                    <a:ext cx="4791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20"/>
          <p:cNvSpPr/>
          <p:nvPr/>
        </p:nvSpPr>
        <p:spPr>
          <a:xfrm>
            <a:off x="1185480" y="416088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of perpendi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624560" y="4027320"/>
          <a:ext cx="374796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24560" y="4027320"/>
                    <a:ext cx="3747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22"/>
          <p:cNvSpPr/>
          <p:nvPr/>
        </p:nvSpPr>
        <p:spPr>
          <a:xfrm>
            <a:off x="1113840" y="49579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3036960" y="4799160"/>
          <a:ext cx="5487840" cy="73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36960" y="4799160"/>
                    <a:ext cx="54878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"/>
          <p:cNvGraphicFramePr/>
          <p:nvPr/>
        </p:nvGraphicFramePr>
        <p:xfrm>
          <a:off x="3946680" y="5896080"/>
          <a:ext cx="1834920" cy="401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46680" y="5896080"/>
                    <a:ext cx="1834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928800"/>
            <a:ext cx="283068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ical Exam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33C5-8C4F-46D6-9F17-C5AC34DDF506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2857680" y="642960"/>
            <a:ext cx="350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quation of the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– b = m (x - 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of the following points do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e on the line 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 + 5x – 4 =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508640" y="1650960"/>
          <a:ext cx="457200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3143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0.8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0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92360" y="6381720"/>
          <a:ext cx="2494080" cy="27468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48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 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+ 5           2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1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= 7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  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28065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1 and 2 are perpend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1 and 4 are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2 and 4 are perpend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2 and 3 are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649920" y="6585120"/>
          <a:ext cx="2494080" cy="27432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5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raight line has equation 10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 = 3x + 15.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0080" y="1785600"/>
            <a:ext cx="3524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0.3 and the y intercept is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3 and the y intercept is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15 and the y intercept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1.5 and the y intercept is 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649920" y="6585120"/>
          <a:ext cx="2494080" cy="27432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70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C7F-B3D3-4A7C-BE97-5CD65E4D655D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4071960" y="1071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500120" y="200016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find where two lines meet we can use simultaneous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1500120" y="307188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this reason it is useful to write the equations in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+  B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=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25002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riangle PQR has vertices P(-3,6) , Q(5,12) &amp; R(5,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30718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edia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from Q meets the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rom P at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46432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median and al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5072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ence find the co-ordinates of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143760" y="3071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aw a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5286240" y="3571920"/>
            <a:ext cx="3714840" cy="2786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5"/>
          <p:cNvGrpSpPr/>
          <p:nvPr/>
        </p:nvGrpSpPr>
        <p:grpSpPr>
          <a:xfrm>
            <a:off x="5286240" y="3714840"/>
            <a:ext cx="3581280" cy="2501640"/>
            <a:chOff x="5286240" y="3714840"/>
            <a:chExt cx="3581280" cy="2501640"/>
          </a:xfrm>
        </p:grpSpPr>
        <p:grpSp>
          <p:nvGrpSpPr>
            <p:cNvPr id="94" name="Group 32"/>
            <p:cNvGrpSpPr/>
            <p:nvPr/>
          </p:nvGrpSpPr>
          <p:grpSpPr>
            <a:xfrm>
              <a:off x="5286240" y="3714840"/>
              <a:ext cx="3581280" cy="2501640"/>
              <a:chOff x="5286240" y="3714840"/>
              <a:chExt cx="3581280" cy="2501640"/>
            </a:xfrm>
          </p:grpSpPr>
          <p:sp>
            <p:nvSpPr>
              <p:cNvPr id="95" name="Line 26"/>
              <p:cNvSpPr/>
              <p:nvPr/>
            </p:nvSpPr>
            <p:spPr>
              <a:xfrm>
                <a:off x="6048000" y="5391000"/>
                <a:ext cx="15242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31"/>
              <p:cNvGrpSpPr/>
              <p:nvPr/>
            </p:nvGrpSpPr>
            <p:grpSpPr>
              <a:xfrm>
                <a:off x="5286240" y="3714840"/>
                <a:ext cx="3581280" cy="2501640"/>
                <a:chOff x="5286240" y="3714840"/>
                <a:chExt cx="3581280" cy="2501640"/>
              </a:xfrm>
            </p:grpSpPr>
            <p:grpSp>
              <p:nvGrpSpPr>
                <p:cNvPr id="97" name="Group 12"/>
                <p:cNvGrpSpPr/>
                <p:nvPr/>
              </p:nvGrpSpPr>
              <p:grpSpPr>
                <a:xfrm>
                  <a:off x="6047640" y="3866760"/>
                  <a:ext cx="1524240" cy="2057040"/>
                  <a:chOff x="6047640" y="3866760"/>
                  <a:chExt cx="1524240" cy="2057040"/>
                </a:xfrm>
              </p:grpSpPr>
              <p:sp>
                <p:nvSpPr>
                  <p:cNvPr id="98" name="Line 9"/>
                  <p:cNvSpPr/>
                  <p:nvPr/>
                </p:nvSpPr>
                <p:spPr>
                  <a:xfrm flipH="1">
                    <a:off x="6047640" y="3866760"/>
                    <a:ext cx="1523880" cy="152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10"/>
                  <p:cNvSpPr/>
                  <p:nvPr/>
                </p:nvSpPr>
                <p:spPr>
                  <a:xfrm>
                    <a:off x="7571880" y="3866760"/>
                    <a:ext cx="0" cy="2057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30"/>
                <p:cNvGrpSpPr/>
                <p:nvPr/>
              </p:nvGrpSpPr>
              <p:grpSpPr>
                <a:xfrm>
                  <a:off x="5286240" y="3714840"/>
                  <a:ext cx="3581280" cy="2501640"/>
                  <a:chOff x="5286240" y="3714840"/>
                  <a:chExt cx="3581280" cy="2501640"/>
                </a:xfrm>
              </p:grpSpPr>
              <p:sp>
                <p:nvSpPr>
                  <p:cNvPr id="101" name="Text Box 17"/>
                  <p:cNvSpPr/>
                  <p:nvPr/>
                </p:nvSpPr>
                <p:spPr>
                  <a:xfrm>
                    <a:off x="5286240" y="478116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18"/>
                  <p:cNvSpPr/>
                  <p:nvPr/>
                </p:nvSpPr>
                <p:spPr>
                  <a:xfrm>
                    <a:off x="7572240" y="371484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Text Box 19"/>
                  <p:cNvSpPr/>
                  <p:nvPr/>
                </p:nvSpPr>
                <p:spPr>
                  <a:xfrm>
                    <a:off x="7648200" y="584820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22"/>
                  <p:cNvSpPr/>
                  <p:nvPr/>
                </p:nvSpPr>
                <p:spPr>
                  <a:xfrm>
                    <a:off x="6581520" y="493380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23"/>
                  <p:cNvSpPr/>
                  <p:nvPr/>
                </p:nvSpPr>
                <p:spPr>
                  <a:xfrm flipH="1">
                    <a:off x="7114680" y="5695560"/>
                    <a:ext cx="7596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24"/>
                  <p:cNvSpPr/>
                  <p:nvPr/>
                </p:nvSpPr>
                <p:spPr>
                  <a:xfrm flipH="1">
                    <a:off x="6428880" y="5466960"/>
                    <a:ext cx="7596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8"/>
                  <p:cNvSpPr/>
                  <p:nvPr/>
                </p:nvSpPr>
                <p:spPr>
                  <a:xfrm flipH="1">
                    <a:off x="6809760" y="3866760"/>
                    <a:ext cx="762120" cy="1752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9"/>
                  <p:cNvSpPr/>
                  <p:nvPr/>
                </p:nvSpPr>
                <p:spPr>
                  <a:xfrm>
                    <a:off x="6048000" y="5391000"/>
                    <a:ext cx="1524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9" name="Line 33"/>
            <p:cNvSpPr/>
            <p:nvPr/>
          </p:nvSpPr>
          <p:spPr>
            <a:xfrm flipH="1">
              <a:off x="7419600" y="5162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 flipV="1">
              <a:off x="7419600" y="51624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4C0D-5D4D-46B4-BC0B-FBE6FE144E72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0" y="1071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3571920" y="357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6"/>
          <p:cNvSpPr/>
          <p:nvPr/>
        </p:nvSpPr>
        <p:spPr>
          <a:xfrm>
            <a:off x="5715000" y="3571920"/>
            <a:ext cx="3429000" cy="2786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278604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 = (-3, 6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 = (5, 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1,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928960" y="2214720"/>
            <a:ext cx="385776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radient of median QK  = 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(12 - 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             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(5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Q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3580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929280" y="2143080"/>
            <a:ext cx="20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4 = 2(x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7358040" y="2500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4 =  2x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215120" y="285768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2x - y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5214960"/>
            <a:ext cx="2071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Q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12 - 2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5 - 5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un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0" y="6072120"/>
            <a:ext cx="3381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K 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571920" y="55008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 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429000" y="57862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6 =  0(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714840" y="61437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071960" y="6488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y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2"/>
          <p:cNvGrpSpPr/>
          <p:nvPr/>
        </p:nvGrpSpPr>
        <p:grpSpPr>
          <a:xfrm>
            <a:off x="5715000" y="3714840"/>
            <a:ext cx="3581280" cy="2543760"/>
            <a:chOff x="5715000" y="3714840"/>
            <a:chExt cx="3581280" cy="2543760"/>
          </a:xfrm>
        </p:grpSpPr>
        <p:grpSp>
          <p:nvGrpSpPr>
            <p:cNvPr id="132" name="Group 15"/>
            <p:cNvGrpSpPr/>
            <p:nvPr/>
          </p:nvGrpSpPr>
          <p:grpSpPr>
            <a:xfrm>
              <a:off x="5715000" y="3714840"/>
              <a:ext cx="3581280" cy="2543760"/>
              <a:chOff x="5715000" y="3714840"/>
              <a:chExt cx="3581280" cy="2543760"/>
            </a:xfrm>
          </p:grpSpPr>
          <p:sp>
            <p:nvSpPr>
              <p:cNvPr id="133" name="Line 16"/>
              <p:cNvSpPr/>
              <p:nvPr/>
            </p:nvSpPr>
            <p:spPr>
              <a:xfrm>
                <a:off x="6476760" y="5424840"/>
                <a:ext cx="1524240" cy="54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17"/>
              <p:cNvGrpSpPr/>
              <p:nvPr/>
            </p:nvGrpSpPr>
            <p:grpSpPr>
              <a:xfrm>
                <a:off x="5715000" y="3714840"/>
                <a:ext cx="3581280" cy="2543760"/>
                <a:chOff x="5715000" y="3714840"/>
                <a:chExt cx="3581280" cy="2543760"/>
              </a:xfrm>
            </p:grpSpPr>
            <p:grpSp>
              <p:nvGrpSpPr>
                <p:cNvPr id="135" name="Group 18"/>
                <p:cNvGrpSpPr/>
                <p:nvPr/>
              </p:nvGrpSpPr>
              <p:grpSpPr>
                <a:xfrm>
                  <a:off x="6476400" y="3870000"/>
                  <a:ext cx="1524240" cy="2097720"/>
                  <a:chOff x="6476400" y="3870000"/>
                  <a:chExt cx="1524240" cy="2097720"/>
                </a:xfrm>
              </p:grpSpPr>
              <p:sp>
                <p:nvSpPr>
                  <p:cNvPr id="136" name="Line 19"/>
                  <p:cNvSpPr/>
                  <p:nvPr/>
                </p:nvSpPr>
                <p:spPr>
                  <a:xfrm flipH="1">
                    <a:off x="6476400" y="3870000"/>
                    <a:ext cx="1523880" cy="155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20"/>
                  <p:cNvSpPr/>
                  <p:nvPr/>
                </p:nvSpPr>
                <p:spPr>
                  <a:xfrm>
                    <a:off x="8000640" y="3870000"/>
                    <a:ext cx="0" cy="209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1"/>
                <p:cNvGrpSpPr/>
                <p:nvPr/>
              </p:nvGrpSpPr>
              <p:grpSpPr>
                <a:xfrm>
                  <a:off x="5715000" y="3714840"/>
                  <a:ext cx="3581280" cy="2543760"/>
                  <a:chOff x="5715000" y="3714840"/>
                  <a:chExt cx="3581280" cy="2543760"/>
                </a:xfrm>
              </p:grpSpPr>
              <p:sp>
                <p:nvSpPr>
                  <p:cNvPr id="139" name="Text Box 23"/>
                  <p:cNvSpPr/>
                  <p:nvPr/>
                </p:nvSpPr>
                <p:spPr>
                  <a:xfrm>
                    <a:off x="8001000" y="371484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Text Box 25"/>
                  <p:cNvSpPr/>
                  <p:nvPr/>
                </p:nvSpPr>
                <p:spPr>
                  <a:xfrm>
                    <a:off x="7010280" y="495792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26"/>
                  <p:cNvSpPr/>
                  <p:nvPr/>
                </p:nvSpPr>
                <p:spPr>
                  <a:xfrm flipH="1">
                    <a:off x="7543440" y="5734800"/>
                    <a:ext cx="7596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27"/>
                  <p:cNvSpPr/>
                  <p:nvPr/>
                </p:nvSpPr>
                <p:spPr>
                  <a:xfrm flipH="1">
                    <a:off x="6857640" y="5501880"/>
                    <a:ext cx="7596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28"/>
                  <p:cNvSpPr/>
                  <p:nvPr/>
                </p:nvSpPr>
                <p:spPr>
                  <a:xfrm flipH="1">
                    <a:off x="7238520" y="3870000"/>
                    <a:ext cx="762120" cy="1787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29"/>
                  <p:cNvSpPr/>
                  <p:nvPr/>
                </p:nvSpPr>
                <p:spPr>
                  <a:xfrm>
                    <a:off x="6476760" y="5424120"/>
                    <a:ext cx="1524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Text Box 22"/>
                  <p:cNvSpPr/>
                  <p:nvPr/>
                </p:nvSpPr>
                <p:spPr>
                  <a:xfrm>
                    <a:off x="5715000" y="48024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Text Box 24"/>
                  <p:cNvSpPr/>
                  <p:nvPr/>
                </p:nvSpPr>
                <p:spPr>
                  <a:xfrm>
                    <a:off x="8076960" y="589032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7" name="Line 30"/>
            <p:cNvSpPr/>
            <p:nvPr/>
          </p:nvSpPr>
          <p:spPr>
            <a:xfrm flipH="1">
              <a:off x="7772040" y="5191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 flipV="1">
              <a:off x="7772400" y="519120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3643200" y="2858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429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riangle PQR has vertices P(-3,6) , Q(5,12) &amp; R(5,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92880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median and al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1714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To find the equation of the median Q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0" y="2214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midpoint of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285920" y="27860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-3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214720" y="278604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6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4"/>
          <p:cNvSpPr/>
          <p:nvPr/>
        </p:nvSpPr>
        <p:spPr>
          <a:xfrm>
            <a:off x="0" y="3929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PR , K, is (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45007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To find the equation of the altitude P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4857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Q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0" y="17859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o find the point of intersection of 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28960" y="2214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- y = -2       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29000" y="257184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= 6        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14400" y="29718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stitute   y = 6 in the top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990720" y="3581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- 6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971800" y="4038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276720" y="4572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057400" y="5257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Hence K is the point  (2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5429160" y="3857760"/>
            <a:ext cx="3714840" cy="25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5562720" y="3857760"/>
            <a:ext cx="3581280" cy="2502000"/>
            <a:chOff x="5562720" y="3857760"/>
            <a:chExt cx="3581280" cy="2502000"/>
          </a:xfrm>
        </p:grpSpPr>
        <p:grpSp>
          <p:nvGrpSpPr>
            <p:cNvPr id="174" name="Group 11"/>
            <p:cNvGrpSpPr/>
            <p:nvPr/>
          </p:nvGrpSpPr>
          <p:grpSpPr>
            <a:xfrm>
              <a:off x="5562720" y="3857760"/>
              <a:ext cx="3581280" cy="2502000"/>
              <a:chOff x="5562720" y="3857760"/>
              <a:chExt cx="3581280" cy="2502000"/>
            </a:xfrm>
          </p:grpSpPr>
          <p:sp>
            <p:nvSpPr>
              <p:cNvPr id="175" name="Line 12"/>
              <p:cNvSpPr/>
              <p:nvPr/>
            </p:nvSpPr>
            <p:spPr>
              <a:xfrm>
                <a:off x="6324480" y="5534280"/>
                <a:ext cx="15242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3"/>
              <p:cNvGrpSpPr/>
              <p:nvPr/>
            </p:nvGrpSpPr>
            <p:grpSpPr>
              <a:xfrm>
                <a:off x="5562720" y="3857760"/>
                <a:ext cx="3581280" cy="2502000"/>
                <a:chOff x="5562720" y="3857760"/>
                <a:chExt cx="3581280" cy="2502000"/>
              </a:xfrm>
            </p:grpSpPr>
            <p:grpSp>
              <p:nvGrpSpPr>
                <p:cNvPr id="177" name="Group 14"/>
                <p:cNvGrpSpPr/>
                <p:nvPr/>
              </p:nvGrpSpPr>
              <p:grpSpPr>
                <a:xfrm>
                  <a:off x="6324120" y="4010040"/>
                  <a:ext cx="1533960" cy="2086200"/>
                  <a:chOff x="6324120" y="4010040"/>
                  <a:chExt cx="1533960" cy="2086200"/>
                </a:xfrm>
              </p:grpSpPr>
              <p:sp>
                <p:nvSpPr>
                  <p:cNvPr id="178" name="Line 15"/>
                  <p:cNvSpPr/>
                  <p:nvPr/>
                </p:nvSpPr>
                <p:spPr>
                  <a:xfrm flipH="1">
                    <a:off x="6324120" y="4010040"/>
                    <a:ext cx="1523880" cy="1524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6"/>
                  <p:cNvSpPr/>
                  <p:nvPr/>
                </p:nvSpPr>
                <p:spPr>
                  <a:xfrm>
                    <a:off x="7848360" y="4010040"/>
                    <a:ext cx="9720" cy="2086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7"/>
                <p:cNvGrpSpPr/>
                <p:nvPr/>
              </p:nvGrpSpPr>
              <p:grpSpPr>
                <a:xfrm>
                  <a:off x="5562720" y="3857760"/>
                  <a:ext cx="3581280" cy="2502000"/>
                  <a:chOff x="5562720" y="3857760"/>
                  <a:chExt cx="3581280" cy="2502000"/>
                </a:xfrm>
              </p:grpSpPr>
              <p:sp>
                <p:nvSpPr>
                  <p:cNvPr id="181" name="Text Box 18"/>
                  <p:cNvSpPr/>
                  <p:nvPr/>
                </p:nvSpPr>
                <p:spPr>
                  <a:xfrm>
                    <a:off x="5562720" y="492444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848720" y="385776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Text Box 20"/>
                  <p:cNvSpPr/>
                  <p:nvPr/>
                </p:nvSpPr>
                <p:spPr>
                  <a:xfrm>
                    <a:off x="7924680" y="599148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21"/>
                  <p:cNvSpPr/>
                  <p:nvPr/>
                </p:nvSpPr>
                <p:spPr>
                  <a:xfrm>
                    <a:off x="6858000" y="507708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2"/>
                  <p:cNvSpPr/>
                  <p:nvPr/>
                </p:nvSpPr>
                <p:spPr>
                  <a:xfrm flipH="1">
                    <a:off x="7391160" y="58388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3"/>
                  <p:cNvSpPr/>
                  <p:nvPr/>
                </p:nvSpPr>
                <p:spPr>
                  <a:xfrm flipH="1">
                    <a:off x="6705360" y="56102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4"/>
                  <p:cNvSpPr/>
                  <p:nvPr/>
                </p:nvSpPr>
                <p:spPr>
                  <a:xfrm flipH="1">
                    <a:off x="7086240" y="4010040"/>
                    <a:ext cx="762120" cy="1752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5"/>
                  <p:cNvSpPr/>
                  <p:nvPr/>
                </p:nvSpPr>
                <p:spPr>
                  <a:xfrm>
                    <a:off x="6357960" y="5524560"/>
                    <a:ext cx="1523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Line 26"/>
            <p:cNvSpPr/>
            <p:nvPr/>
          </p:nvSpPr>
          <p:spPr>
            <a:xfrm flipH="1">
              <a:off x="7619760" y="5305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V="1">
              <a:off x="7620120" y="5304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0" y="1071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373-7C74-4A92-85ED-CA0311CE99C1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Friday 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0" y="1071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28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he points E(-1,1), F(3,3) and G(6,2) all lie on the circumference of a circ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2500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perpendicular bisectors of EF and F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300024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ence find the co-ordinates of the centre of the circle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40719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iagram will be something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0"/>
          <p:cNvGrpSpPr/>
          <p:nvPr/>
        </p:nvGrpSpPr>
        <p:grpSpPr>
          <a:xfrm>
            <a:off x="4143240" y="2928960"/>
            <a:ext cx="4876920" cy="3733920"/>
            <a:chOff x="4143240" y="2928960"/>
            <a:chExt cx="4876920" cy="3733920"/>
          </a:xfrm>
        </p:grpSpPr>
        <p:sp>
          <p:nvSpPr>
            <p:cNvPr id="204" name="Oval 7"/>
            <p:cNvSpPr/>
            <p:nvPr/>
          </p:nvSpPr>
          <p:spPr>
            <a:xfrm>
              <a:off x="5210280" y="353844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 flipV="1">
              <a:off x="5210280" y="353844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4143240" y="4757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6276960" y="292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7953480" y="3843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9"/>
            <p:cNvSpPr/>
            <p:nvPr/>
          </p:nvSpPr>
          <p:spPr>
            <a:xfrm>
              <a:off x="6505560" y="5138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0"/>
            <p:cNvSpPr/>
            <p:nvPr/>
          </p:nvSpPr>
          <p:spPr>
            <a:xfrm>
              <a:off x="6429240" y="353844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 flipV="1">
              <a:off x="6657840" y="391932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2"/>
            <p:cNvSpPr/>
            <p:nvPr/>
          </p:nvSpPr>
          <p:spPr>
            <a:xfrm flipH="1" flipV="1">
              <a:off x="5819760" y="422388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 flipV="1">
              <a:off x="7496280" y="399564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 flipV="1">
              <a:off x="6810480" y="361440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5"/>
            <p:cNvSpPr/>
            <p:nvPr/>
          </p:nvSpPr>
          <p:spPr>
            <a:xfrm>
              <a:off x="6048360" y="3767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6"/>
            <p:cNvSpPr/>
            <p:nvPr/>
          </p:nvSpPr>
          <p:spPr>
            <a:xfrm>
              <a:off x="7115040" y="40719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V="1">
              <a:off x="7267680" y="399564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 flipH="1" flipV="1">
              <a:off x="5514840" y="4452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H="1" flipV="1">
              <a:off x="5971680" y="38430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 flipH="1" flipV="1">
              <a:off x="5438520" y="4528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6"/>
            <p:cNvSpPr/>
            <p:nvPr/>
          </p:nvSpPr>
          <p:spPr>
            <a:xfrm>
              <a:off x="5972040" y="40719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H="1">
              <a:off x="5972040" y="42242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1:05:03Z</dcterms:created>
  <dc:creator>EST</dc:creator>
  <dc:description/>
  <dc:language>en-US</dc:language>
  <cp:lastModifiedBy>Caroline</cp:lastModifiedBy>
  <dcterms:modified xsi:type="dcterms:W3CDTF">2009-06-16T22:01:28Z</dcterms:modified>
  <cp:revision>65</cp:revision>
  <dc:subject/>
  <dc:title>Slide 1</dc:title>
</cp:coreProperties>
</file>